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F445-16B1-4CDD-B6E9-5D0371B06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996E-D004-455E-B4ED-3499920C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A776-A9BC-4A3C-AD8C-8CCD3A43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73FD-9628-4359-92D3-243D835B9F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6DBE-478A-48FA-94DA-71D1976E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D27DE-3D72-4D88-B959-35BE2AFD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B891-64F6-49FF-B575-5899AB36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6B2A-D31F-405D-A7EE-4392B1FC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77B2-13E7-43A7-B005-9A20757C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E0F4-0670-40CA-8EB9-51CC0E08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847CB-4757-4B9D-A341-78123379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70F4-7FFB-4312-8940-0FDB0E4D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FC4A-3382-4B3F-849C-8E18BD57F6BA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&lt;Product&gt;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approach sloga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Presenter’s 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8136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&lt;Te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0356-5458-460C-8E0C-614C159985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04640"/>
            <a:ext cx="2960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 &lt;Product&gt;</a:t>
            </a: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us pre &lt;Milest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1280" y="2065320"/>
            <a:ext cx="12301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nclude 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(from S0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49440" y="1628640"/>
          <a:ext cx="572292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628640"/>
                    <a:ext cx="57229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 flipV="1">
            <a:off x="1074600" y="2050560"/>
            <a:ext cx="4857840" cy="30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DE7A-CB2B-42D6-B639-10C9F7770D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3146-38DC-400F-81C9-AB658D92F5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last milestone&gt;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xx.xx.xx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25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vs. xx.xx.xx as of M1)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xx.xx.xx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vs. xx.xx.xx as of M1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BAFE-B916-4C91-803A-01059E2EC2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Improvements on red ratings from last Quality Gate PH par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d: &lt;“TTM”, “Software” etc.&gt;: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scription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&lt;improvement&gt;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&lt;improvement&gt;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d: Cost vs. Target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BOM target missed by 2 Euro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BOM reduced by 1 Eur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12800" indent="-17640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Further DTC measures to be evalua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54F73-4A0B-4D44-9988-64E24C684C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Text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-&gt; Impact on TTM, cost, quality or other produc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Tex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F0CF-C7DE-482F-9D26-D3F91602F5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Option 1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645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6560" y="836640"/>
            <a:ext cx="396108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Pro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836640"/>
            <a:ext cx="417672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933720"/>
            <a:ext cx="8351640" cy="2665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quired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; also state effort/cost of 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15C8-3D0A-41C3-A077-55082DEE52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Option 2 (recommended)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3645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560" y="836640"/>
            <a:ext cx="396108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Pro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836640"/>
            <a:ext cx="4176720" cy="27777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s 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(→ TTM, cost, quality, other prod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33720"/>
            <a:ext cx="8351640" cy="2665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quired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; also state effort/cost of 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measure&gt;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ame&gt; 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whe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5292720"/>
                <a:tab algn="r" pos="81644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E61A-9463-48EE-B1AE-2D9540076B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Decisions, resources, etc.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&lt;concrete actions only, e.g. not „higher  management attention“&gt;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E421-A3C1-4C4C-AC15-B5F6822516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E624-78EE-440A-9DF6-81BDFE1B7C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2040" y="1152360"/>
            <a:ext cx="8356680" cy="5156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 – Not updated-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2088-3509-4769-BCC4-0356D21F6F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ssanm</cp:lastModifiedBy>
  <dcterms:modified xsi:type="dcterms:W3CDTF">2006-01-13T14:44:54Z</dcterms:modified>
  <cp:revision>101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64028184</vt:r8>
  </property>
  <property fmtid="{D5CDD505-2E9C-101B-9397-08002B2CF9AE}" pid="3" name="_AuthorEmail">
    <vt:lpwstr>Marcell.Assan@BenQ.com</vt:lpwstr>
  </property>
  <property fmtid="{D5CDD505-2E9C-101B-9397-08002B2CF9AE}" pid="4" name="_AuthorEmailDisplayName">
    <vt:lpwstr>Marcell Assan</vt:lpwstr>
  </property>
  <property fmtid="{D5CDD505-2E9C-101B-9397-08002B2CF9AE}" pid="5" name="_EmailSubject">
    <vt:lpwstr>TPM / TPM BA jf am 9.1.</vt:lpwstr>
  </property>
</Properties>
</file>